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09C-4DF6-47C2-993B-C8F2BDD2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692-1AA6-4DD2-A5F0-04DA5D33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DC5-75D2-438D-A486-8F62D725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25F-BA30-41EB-8693-376DEDD6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61C-06A5-4F7F-AF88-38AA6582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2DC-EC4B-445C-8637-179F2BD6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A8B-457B-4746-BEE0-12702046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8CD-8C2D-4D41-8BA5-9A6D605B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2DA-0DE3-4C7D-865E-93F92F62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AC9-DC64-4E18-A46B-25DEFCF8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203-6354-4CFB-925B-5C2480F3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040-47D9-4236-8A9E-54FC0B58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C294-8684-492B-9B6F-4A5E0145D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656400">
            <a:off x="684000" y="836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lackadder ITC"/>
              </a:rPr>
              <a:t>That  Really  Bugs  Me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00720" y="1890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Pre-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907920"/>
            <a:ext cx="144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rebuchet MS"/>
              </a:rPr>
              <a:t>Ecosystems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27280" y="1413000"/>
            <a:ext cx="93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rebuchet MS"/>
              </a:rPr>
              <a:t>Food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5" name=""/>
          <p:cNvSpPr txBox="1"/>
          <p:nvPr/>
        </p:nvSpPr>
        <p:spPr>
          <a:xfrm rot="528000">
            <a:off x="4932000" y="1699920"/>
            <a:ext cx="115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rebuchet MS"/>
              </a:rPr>
              <a:t>Species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26920" y="4005360"/>
            <a:ext cx="136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rebuchet MS"/>
              </a:rPr>
              <a:t>Pollinators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08360" y="5229360"/>
            <a:ext cx="136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rebuchet MS"/>
              </a:rPr>
              <a:t>Parasites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020000" y="1484280"/>
            <a:ext cx="129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rebuchet MS"/>
              </a:rPr>
              <a:t>Cycles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2276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nsects eat leaves, insec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2492280"/>
            <a:ext cx="169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Caterpi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Cock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Centip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pid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628640"/>
            <a:ext cx="180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Rain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On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n a b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G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2133720"/>
            <a:ext cx="2232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First their was an egg on a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Next day the hungry caterpillar ate so much f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Forth day turned into a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B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2:41:48Z</dcterms:created>
  <dc:creator>phong.trang</dc:creator>
  <dc:description/>
  <dc:language>en-US</dc:language>
  <cp:lastModifiedBy>phong.trang</cp:lastModifiedBy>
  <dcterms:modified xsi:type="dcterms:W3CDTF">2009-03-24T02:40:31Z</dcterms:modified>
  <cp:revision>2</cp:revision>
  <dc:subject/>
  <dc:title>Slide 1</dc:title>
</cp:coreProperties>
</file>